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834-488A-46EB-995A-1815BDF8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CC7-4F1B-402C-AA2F-A05FF1E8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0D0-DC54-4C6D-8744-595CFDEB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0F7-1A90-411D-ABB6-CB95E413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652-5AD5-44BC-B912-D5641C7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05C-0174-44AD-BD7A-A58C0E7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2D6-E103-498F-95C6-0057F14F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D89-ADAE-478E-B7F1-A516524C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2AE-B86C-47BC-9E9A-6BC1B8AF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043-F13C-4A80-8ACA-9C016A1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26D-18F8-4C91-AE43-4DA699D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C2F-036B-440B-A063-22D73EE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A98C-64BC-4478-913A-D01FBB60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309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RV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external image 1Sistema_nervioso_web.jpg"/>
          <p:cNvPicPr/>
          <p:nvPr/>
        </p:nvPicPr>
        <p:blipFill>
          <a:blip r:embed="rId1"/>
          <a:stretch/>
        </p:blipFill>
        <p:spPr>
          <a:xfrm>
            <a:off x="4284720" y="222120"/>
            <a:ext cx="4051080" cy="6635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1682640"/>
            <a:ext cx="3816360" cy="49118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demos considerar que el sistema nervioso se organiz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Sistema nervioso centr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formado por e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ncéfal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(cerebro, cerebelo, tronco cerebral y bulbo raquídeo) y la médula esp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Sistema nervioso periféric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formado por los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nervio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(craneales y raquídeos) y los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ceptore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situados en los órganos de los sen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mbién pueden considerarse como parte del sistema nervioso periférico las inervaciones de los mús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RVIOS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2394000"/>
          <a:ext cx="403704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704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884240"/>
            <a:ext cx="4038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 NERVIOSO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464000" cy="29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8360" y="2205000"/>
            <a:ext cx="3622680" cy="377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1280" y="3814920"/>
            <a:ext cx="34560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 NERVIOSO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4035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 ENDOC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44720"/>
            <a:ext cx="72010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ARATIVA SISTEMA NERVIOSO / SISTEMA ENDOC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200240"/>
          <a:ext cx="8229600" cy="4790880"/>
        </p:xfrm>
        <a:graphic>
          <a:graphicData uri="http://schemas.openxmlformats.org/drawingml/2006/table">
            <a:tbl>
              <a:tblPr/>
              <a:tblGrid>
                <a:gridCol w="2314440"/>
                <a:gridCol w="2808360"/>
                <a:gridCol w="3106800"/>
              </a:tblGrid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STEMA NERVI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STEMA ENDOCR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ns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ÉCTRICO, CORRIENTE NERVI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ÍMICO, HORM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a de propagación del mens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OS NERV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SANG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del mens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, CASI INSTANTÁ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LE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USCULATURA ESQUEL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09960" y="836640"/>
            <a:ext cx="4949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977760"/>
            <a:ext cx="6265800" cy="548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TIC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5589720"/>
            <a:ext cx="358920" cy="372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416480" cy="602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83040" y="1628640"/>
            <a:ext cx="409752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7:39:44Z</dcterms:created>
  <dc:creator>Rafael</dc:creator>
  <dc:description/>
  <dc:language>en-US</dc:language>
  <cp:lastModifiedBy>Rafael</cp:lastModifiedBy>
  <dcterms:modified xsi:type="dcterms:W3CDTF">2014-03-03T18:53:06Z</dcterms:modified>
  <cp:revision>3</cp:revision>
  <dc:subject/>
  <dc:title>SISTEMA NERVIOSO</dc:title>
</cp:coreProperties>
</file>